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bomb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DA37-54D9-46A6-BCFB-5D0EBE3A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4D61-682B-4A89-9784-E0666C8E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7643-505A-4FC4-B91C-3ADDA884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0ACA-3CC2-4C52-98A1-4123FACC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17C6-0035-4B63-9E1B-76D7F3F4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E64C-EB2B-4C3A-ACFE-1DA3DFA9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38D4-3FAC-4022-868F-57863549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20E2-B540-4697-A263-3706B4A1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109E-3671-41FA-AC51-F2AE5E60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A65E-955D-424A-8614-628DCC9B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F14B-9F2A-467B-9891-4C6682B6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F91E-2ED6-4441-9CFC-0DAFD081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BA91-30E5-4EA5-8DDA-70A0B47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0D93-ACFA-4F78-9F94-078F845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A2E9-059D-4C63-B912-D85AFBC6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76CB-39DF-4FA9-90D2-61FCF97C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088C-F5BD-47FA-B381-D2B46732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8467-88CD-4EB7-80F5-B0518621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9E70-8B7F-4DAD-BAAA-0D7F8917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A3B5-C01A-4B92-B541-F29C54E4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77AC-AABD-4EA9-9D8A-3FC96562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06B2-B2C8-4E9F-A089-B790F3F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E39B-0EAF-497F-BD13-B89FAA8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6971-167E-42FD-AD94-5926C750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4D87-7164-4717-A0CE-8EEA50D614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2DE-8FB2-48C7-A28C-6A8896523AB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0447-B465-4EB7-BB11-BF901A2FED4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CEE0-46F8-48E6-A626-7C391A7B15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6441-27FD-4B85-8DAA-BF61DB55B8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ЁНОГО БОГ БЕРЕЖ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пожарная безопас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От чего люди гибнут на пожар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От дыма, огня, ядовитых газов, потери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Шипит и злится, воды боится. С языком, а не лает, без зубов, а кус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Накормишь - живет. Напоишь - умр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Пожар, 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В деревянном домике проживают гномики, уж такие добряки раздают всем огонь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пи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Голова огнем пылает. Тело тает и сгорает. Я полезной быть хочу. Лампы нет я посвеч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веча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вас загорелся телевизор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бесточу, накрою влажным одеялом. Нельзя поливать во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ковороде горит масло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тключу плиту. Закрою крышкой или влажным полотенц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ставить сковороду под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ас горит одежда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Упаду, буду кататься по пол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акрою себя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убе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 видите человека в горящей одежде. Что нужно делать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овалю на пол, накрою курткой,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тушить из огнетуш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00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Отгадай ключевое сло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Если по горизонтали впишете правильные ответы, то в выделенном вертикальном столбце прочтёте ключевое сл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опросы 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Из-за неосторожного обращения с ним может возникнуть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Опасный бытовой при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Травма, которую может получить человек при небрежном обращении с огнё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Длинное вспомогательное средство с поперечными перекладинами, используемое спасателями для эвакуации людей из высотных зд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Первичное средство пожарот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376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224080"/>
          <a:ext cx="6905880" cy="363384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1640"/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2000"/>
              </a:tblGrid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ё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р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ю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57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ж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ц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а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ш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ь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такое эвакуа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о экстренный выход из опасной зоны при Ч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e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Tahoma"/>
              </a:rPr>
              <a:t>Обеспечьте пожарную безопасность кварти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йдите в течение 2-х минут нарушения П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572160" cy="4278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содержится в пожарном ящ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опор, лопата, огнетушитель, багор, и ящик с п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ледует убирать их в шкаф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следует хранить в короб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)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олз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дышать через увлажнённую тка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 полный рост и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в полный рост медле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кач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ржать равновес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ридерживаться палкой потол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опираться на пол ру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2C9B-D554-4BCE-B154-FA5BD26BA8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ьте всегда бдитель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блюдайте треб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ОЙ БЕЗОПАСНОСТ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Tahoma"/>
              </a:rPr>
              <a:t>Нарушения пожарной безопасности в квартир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Лампа накрыта ткан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Розетка на стене перегруж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Утюг включё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Электрокабель под ковр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Занавеска находится слишком близко от пли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ка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отенце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чему номер пожарной службы «01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Легко запомнить, короткий номер, логично набрать даже в темноте</a:t>
            </a:r>
            <a:r>
              <a:rPr b="1" lang="en-US" sz="3200" spc="-1" strike="noStrike">
                <a:solidFill>
                  <a:srgbClr val="ebf25a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сделать, когда уходишь из квартиры, чтобы не допустить пожар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Выключить  свет, отключить электроприб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Можно ли бить оконные стекла в очаге возгоран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Нельзя, так как поступающий воздух усиливает г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делать, если огонь отрезал путь к выход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Уйти в дальнюю комнату, плотно закрыть дверь, через окно или балконную дверь кричать о помощи. Прохожие вызовут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ённая электроплита</a:t>
            </a:r>
            <a:r>
              <a:rPr b="1" lang="ru-RU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енная электроплита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03:02Z</dcterms:created>
  <dc:creator/>
  <dc:description/>
  <dc:language>en-US</dc:language>
  <cp:lastModifiedBy>Comp</cp:lastModifiedBy>
  <dcterms:modified xsi:type="dcterms:W3CDTF">2014-09-02T16:41:10Z</dcterms:modified>
  <cp:revision>46</cp:revision>
  <dc:subject/>
  <dc:title>ВИКТОРИНА</dc:title>
</cp:coreProperties>
</file>